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578-D7E7-478A-8803-F70C6968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9FF-FD40-44B2-A8DC-A7C00F77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F39-9CA5-4A74-9000-2824ECF3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F49-3157-4FE3-ADAD-89418A5E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624-A223-4F73-BEEC-595F445E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B4E-7676-4FA8-B8B1-75207236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7B3-0EA2-4094-83F9-31845CA0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A60-CF7B-41F5-A81E-9716D384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18C-BC6D-46EC-9851-8AC20E4B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136-B2DE-4945-AD2D-46A674F2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E67-AB60-43A1-BF9A-170B972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E53-7F99-4E30-84B3-13044EA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957-FA50-4D7F-B816-D97F62E6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g Personali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741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10) If the pig is drawn with less than 4 legs showing you are living through a period of major change in your lif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11) The larger the pigs ears you have drawn, the better listener you 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2) And last but not least…the longer the pig’s tail that you have drawn (including loops) the more satisfied you are with the quality of your person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219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361008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 a clean piece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rite your name on the right hand side top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rite the date on the left hand corner top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4365720"/>
            <a:ext cx="715500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Draw a pig</a:t>
            </a:r>
            <a:endParaRPr b="1" lang="en-US" sz="96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3384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aning of Pi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f the pig is drawn towards the top of the paper you are perceived as a positive and optimistic person by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2) If the pig is drawn towards the middle of the page you are perceived as a rea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)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f the pig is drawn towards the bottom of the page, you are perceived as a pessimistic person and have the tendency to behave negatively under press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836640"/>
            <a:ext cx="30844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4)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f the pig is facing to the left, you believe in tradition, are friendly and remember dates and birth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5) If the pig is facing forward (towards you) you are a direct person; neither fear nor avoid discussion and enjoy “stirring the pot” to promote ch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2028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6)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If the pig is facing to the right you are innovative, creative and active; you have a poor memory of dates and birthd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64000" y="2421000"/>
            <a:ext cx="41259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) If the pig is drawn with many details you see yourself as analytical and cautious. Others must work hard to earn your trust and to keep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8) If the pig is drawn with few details you are a risk taker; wear your emotions on your sleeve and care little for the details in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1608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3970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9) If the pig is drawn with (four) 4 legs showing you are secure, stick to your beliefs and have been told at least once in your life that you are stubbo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9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2:01:40Z</dcterms:created>
  <dc:creator>meridyth taylor</dc:creator>
  <dc:description/>
  <dc:language>en-US</dc:language>
  <cp:lastModifiedBy>meridyth taylor</cp:lastModifiedBy>
  <dcterms:modified xsi:type="dcterms:W3CDTF">2011-11-21T02:51:56Z</dcterms:modified>
  <cp:revision>2</cp:revision>
  <dc:subject/>
  <dc:title>Pig Personality Test</dc:title>
</cp:coreProperties>
</file>